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gif" ContentType="image/gi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4190-9ED6-4CA5-8EAA-E3FF19A4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810-2F00-4B13-889A-979BCAA2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71A-5B07-4D86-A5A8-965986D3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DB8-C044-4CA9-B508-CE66EB86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6FD7-3905-400A-BC20-46702132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5D2-AF51-4015-B84A-BB0D10B0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1CD-BFA9-4642-88E7-D47590B0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6B2-9030-4BE9-A018-56D16FF1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FC7-D447-4BC6-9233-E0D0049A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74EC-D49B-4C4E-B422-721E1A17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F38-573C-4D8D-99C5-44D665F3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928-C0A9-4BD8-B136-76904FB2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3D1E-75FD-4D9A-B0F8-85ACB58D64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74800" y="2451240"/>
            <a:ext cx="541656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28.3</a:t>
            </a: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用一元二次方程解决实际问题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488880" y="366840"/>
            <a:ext cx="3076560" cy="820440"/>
            <a:chOff x="488880" y="366840"/>
            <a:chExt cx="3076560" cy="820440"/>
          </a:xfrm>
        </p:grpSpPr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488880" y="438120"/>
              <a:ext cx="863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476360" y="366840"/>
              <a:ext cx="2089080" cy="68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584000" y="474480"/>
              <a:ext cx="18734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练　习</a:t>
              </a:r>
              <a:endPara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952560" y="1623960"/>
            <a:ext cx="756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某商店从厂家以每件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的价格购进一批商品，该商店可以自行定价．据市场调查，该商品的售价与销售量的关系是：若每件售价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，则可卖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320-10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件，但物价部门限定每件商品加价不能超过进货价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5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％的．如果商店计划要获利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，则每件商品的售价应定为多少元？需要卖出这种商品多少件？（每件商品的利润＝售价进货价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238400" y="579600"/>
            <a:ext cx="3714480" cy="17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回顾与思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62" name=""/>
          <p:cNvSpPr/>
          <p:nvPr/>
        </p:nvSpPr>
        <p:spPr>
          <a:xfrm>
            <a:off x="1527120" y="2727360"/>
            <a:ext cx="65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　　利用一元二次方程解决实际问题时，要注意通过实际要求检验根的合理性，要注意审题能力的培养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52280" y="495360"/>
            <a:ext cx="1866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作业</a:t>
            </a:r>
            <a:endParaRPr b="0" lang="en-US" sz="1800" spc="1" strike="noStrike">
              <a:ln cap="sq"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4" name=""/>
          <p:cNvSpPr/>
          <p:nvPr/>
        </p:nvSpPr>
        <p:spPr>
          <a:xfrm>
            <a:off x="2538720" y="2252520"/>
            <a:ext cx="19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课后习题 节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同步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5292720" y="549360"/>
            <a:ext cx="3529080" cy="1871640"/>
            <a:chOff x="5292720" y="549360"/>
            <a:chExt cx="3529080" cy="1871640"/>
          </a:xfrm>
        </p:grpSpPr>
        <p:pic>
          <p:nvPicPr>
            <p:cNvPr id="43" name="" descr=""/>
            <p:cNvPicPr/>
            <p:nvPr/>
          </p:nvPicPr>
          <p:blipFill>
            <a:blip r:embed="rId2"/>
            <a:srcRect l="0" t="36273" r="0" b="0"/>
            <a:stretch/>
          </p:blipFill>
          <p:spPr>
            <a:xfrm>
              <a:off x="5292720" y="549360"/>
              <a:ext cx="35290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5292720" y="549360"/>
              <a:ext cx="3527280" cy="187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5292720" y="1268280"/>
            <a:ext cx="3527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956720" y="549360"/>
            <a:ext cx="21564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2720" y="2492280"/>
            <a:ext cx="80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地铺成草坪，如果四块草坪的面积之和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12m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请求出原来大矩形空地的长和宽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333360"/>
            <a:ext cx="453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图，某小区内有一块长、宽比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矩形空地，计划在该空地上修筑两条宽均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m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互相垂直的小路，余下的四块小矩形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24000" y="3578400"/>
            <a:ext cx="2858400" cy="930240"/>
            <a:chOff x="324000" y="3578400"/>
            <a:chExt cx="2858400" cy="930240"/>
          </a:xfrm>
        </p:grpSpPr>
        <p:sp>
          <p:nvSpPr>
            <p:cNvPr id="50" name=""/>
            <p:cNvSpPr/>
            <p:nvPr/>
          </p:nvSpPr>
          <p:spPr>
            <a:xfrm>
              <a:off x="1093320" y="3578400"/>
              <a:ext cx="2089080" cy="68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1201320" y="3686400"/>
              <a:ext cx="1873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一起探究</a:t>
              </a:r>
              <a:endPara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324000" y="3578400"/>
              <a:ext cx="656640" cy="9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1663560" y="4437000"/>
            <a:ext cx="35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请找出上述问题中的等量关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91560" y="5052960"/>
            <a:ext cx="33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列出方程，并求出方程的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38840" y="5702400"/>
            <a:ext cx="52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写出问题的答案，并与同学交流各自的思考过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4898880" y="765000"/>
            <a:ext cx="3529080" cy="1871640"/>
            <a:chOff x="4898880" y="765000"/>
            <a:chExt cx="3529080" cy="1871640"/>
          </a:xfrm>
        </p:grpSpPr>
        <p:pic>
          <p:nvPicPr>
            <p:cNvPr id="57" name="" descr=""/>
            <p:cNvPicPr/>
            <p:nvPr/>
          </p:nvPicPr>
          <p:blipFill>
            <a:blip r:embed="rId2"/>
            <a:srcRect l="0" t="36273" r="0" b="0"/>
            <a:stretch/>
          </p:blipFill>
          <p:spPr>
            <a:xfrm>
              <a:off x="4898880" y="765000"/>
              <a:ext cx="35290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898880" y="765000"/>
              <a:ext cx="3527280" cy="187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98880" y="1484280"/>
            <a:ext cx="35276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62880" y="765000"/>
            <a:ext cx="216000" cy="18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4560" y="80964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设原来矩形的宽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则长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33840" y="743040"/>
            <a:ext cx="32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9920" y="2637000"/>
            <a:ext cx="32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91560" y="1419120"/>
            <a:ext cx="6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648320" y="781200"/>
            <a:ext cx="0" cy="799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67400" y="1866960"/>
            <a:ext cx="0" cy="7430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2647800"/>
            <a:ext cx="19080" cy="343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47040" y="2617920"/>
            <a:ext cx="19080" cy="342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15400" y="2581200"/>
            <a:ext cx="8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91200" y="2876400"/>
            <a:ext cx="14097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952520" y="2876400"/>
            <a:ext cx="133380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903920" y="276120"/>
            <a:ext cx="3938400" cy="2086200"/>
            <a:chOff x="4903920" y="276120"/>
            <a:chExt cx="3938400" cy="2086200"/>
          </a:xfrm>
        </p:grpSpPr>
        <p:sp>
          <p:nvSpPr>
            <p:cNvPr id="73" name=""/>
            <p:cNvSpPr/>
            <p:nvPr/>
          </p:nvSpPr>
          <p:spPr>
            <a:xfrm>
              <a:off x="8420040" y="2362320"/>
              <a:ext cx="324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427960" y="750960"/>
              <a:ext cx="324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8172360" y="399960"/>
              <a:ext cx="0" cy="362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903920" y="388800"/>
              <a:ext cx="0" cy="362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7987320" y="1305000"/>
              <a:ext cx="11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-2)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77280" y="276120"/>
              <a:ext cx="136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2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-2)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4952880" y="590400"/>
              <a:ext cx="857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67520" y="571680"/>
              <a:ext cx="10479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629560" y="799920"/>
              <a:ext cx="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629560" y="2076480"/>
              <a:ext cx="0" cy="266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856800" y="18684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02760" y="320688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根据题意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7120" y="3870360"/>
          <a:ext cx="5216400" cy="80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7120" y="3870360"/>
                    <a:ext cx="521640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7848720" y="6000840"/>
            <a:ext cx="971280" cy="571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行楷"/>
              </a:rPr>
              <a:t>使用帮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1388 L 0.00139 0.13611 E">
                                      <p:cBhvr>
                                        <p:cTn id="3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06875 -0.00093 E">
                                      <p:cBhvr>
                                        <p:cTn id="4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74840" y="1397160"/>
            <a:ext cx="67705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在分析时，顺次点击两条小路、草地，在图的周围会出现数据分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7315200" y="5753160"/>
            <a:ext cx="1200240" cy="6667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22200" y="1332000"/>
            <a:ext cx="715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如图，有一块长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80cm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宽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60cm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硬纸片，在四个角各剪去一个同样的小正方形，用剩余部分做成一个底面积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500cm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无盖的长方体盒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求剪去的小正方形的边长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20760" y="409680"/>
            <a:ext cx="2930400" cy="861480"/>
            <a:chOff x="320760" y="409680"/>
            <a:chExt cx="2930400" cy="86148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320760" y="480960"/>
              <a:ext cx="792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162080" y="409680"/>
              <a:ext cx="2089080" cy="68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1270080" y="517320"/>
              <a:ext cx="18730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做一做</a:t>
              </a:r>
              <a:endPara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905360" y="3610080"/>
            <a:ext cx="2879640" cy="2158920"/>
            <a:chOff x="4905360" y="3610080"/>
            <a:chExt cx="2879640" cy="2158920"/>
          </a:xfrm>
        </p:grpSpPr>
        <p:sp>
          <p:nvSpPr>
            <p:cNvPr id="96" name=""/>
            <p:cNvSpPr/>
            <p:nvPr/>
          </p:nvSpPr>
          <p:spPr>
            <a:xfrm>
              <a:off x="4905360" y="3610080"/>
              <a:ext cx="2879640" cy="215892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05360" y="3610080"/>
              <a:ext cx="475920" cy="475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05360" y="5292720"/>
              <a:ext cx="475920" cy="475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08720" y="5292720"/>
              <a:ext cx="475920" cy="475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08720" y="3610080"/>
              <a:ext cx="475920" cy="475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372280" y="4095720"/>
            <a:ext cx="1904760" cy="11811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53320" y="3600360"/>
            <a:ext cx="32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80320" y="5761080"/>
            <a:ext cx="32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790040" y="3274920"/>
            <a:ext cx="0" cy="324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902120" y="3282840"/>
            <a:ext cx="0" cy="324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15080" y="309564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7453440" y="43527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3390840"/>
            <a:ext cx="10476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915080" y="3390840"/>
            <a:ext cx="9712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972560" y="3657240"/>
            <a:ext cx="0" cy="476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72560" y="5029200"/>
            <a:ext cx="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488880" y="366840"/>
            <a:ext cx="3076560" cy="820440"/>
            <a:chOff x="488880" y="366840"/>
            <a:chExt cx="3076560" cy="82044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488880" y="438120"/>
              <a:ext cx="863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476360" y="366840"/>
              <a:ext cx="2089080" cy="68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1584000" y="474480"/>
              <a:ext cx="18734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练　习</a:t>
              </a:r>
              <a:endPara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317600" y="1795320"/>
            <a:ext cx="6578280" cy="2211480"/>
            <a:chOff x="1317600" y="1795320"/>
            <a:chExt cx="6578280" cy="2211480"/>
          </a:xfrm>
        </p:grpSpPr>
        <p:sp>
          <p:nvSpPr>
            <p:cNvPr id="117" name=""/>
            <p:cNvSpPr/>
            <p:nvPr/>
          </p:nvSpPr>
          <p:spPr>
            <a:xfrm>
              <a:off x="1317600" y="1795320"/>
              <a:ext cx="6578280" cy="12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　　将一个长方形的长缩短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5cm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，宽增长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3cm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，正好得到一个正方形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已知原长方形的面积是正方形面积的　　，求这个正方形的边长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8" name=""/>
            <p:cNvGraphicFramePr/>
            <p:nvPr/>
          </p:nvGraphicFramePr>
          <p:xfrm>
            <a:off x="5402520" y="2874960"/>
            <a:ext cx="439560" cy="113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2520" y="2874960"/>
                      <a:ext cx="439560" cy="11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318960"/>
            <a:ext cx="104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例</a:t>
            </a: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8120" y="328680"/>
            <a:ext cx="81309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某商场销售一种服装，平均每天可售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件，每件赢利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经市场调查发现：如果每件服装降价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，平均每天能多售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国庆节期间，商场决定采取降价促销的措施，以达到减少库存、扩大销售量的目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果销售这种服装每天赢利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2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，那么每件服装应降价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38720" y="895320"/>
            <a:ext cx="3048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33480" y="1504800"/>
            <a:ext cx="2019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34200" y="1447920"/>
            <a:ext cx="285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76240" y="2000160"/>
            <a:ext cx="781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467160" y="2018880"/>
            <a:ext cx="1905120" cy="1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610000"/>
            <a:ext cx="2743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52560" y="3181320"/>
            <a:ext cx="2266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5280" y="3181320"/>
            <a:ext cx="2019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0280" y="3695760"/>
            <a:ext cx="32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71360" y="3700440"/>
            <a:ext cx="1580400" cy="969840"/>
            <a:chOff x="171360" y="3700440"/>
            <a:chExt cx="1580400" cy="969840"/>
          </a:xfrm>
        </p:grpSpPr>
        <p:sp>
          <p:nvSpPr>
            <p:cNvPr id="132" name=""/>
            <p:cNvSpPr/>
            <p:nvPr/>
          </p:nvSpPr>
          <p:spPr>
            <a:xfrm>
              <a:off x="978120" y="3901320"/>
              <a:ext cx="77364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t">
              <a:spAutoFit/>
            </a:bodyPr>
            <a:p>
              <a:pPr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zh-CN" sz="38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分析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71360" y="3700440"/>
              <a:ext cx="877320" cy="96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1649520" y="3995640"/>
            <a:ext cx="5979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　如果设每件服装降价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，则每件服装的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利为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，每天销售的服装为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　　　　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等量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57920" y="454356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0-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15760" y="4505400"/>
            <a:ext cx="16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0+2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35880" y="5762520"/>
            <a:ext cx="52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每件服装的赢利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每天销售的服装件数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2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8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1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040480" y="1400040"/>
            <a:ext cx="52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每件服装的赢利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每天销售的服装件数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2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66760" y="328680"/>
            <a:ext cx="1579680" cy="969840"/>
            <a:chOff x="266760" y="328680"/>
            <a:chExt cx="1579680" cy="969840"/>
          </a:xfrm>
        </p:grpSpPr>
        <p:sp>
          <p:nvSpPr>
            <p:cNvPr id="140" name=""/>
            <p:cNvSpPr/>
            <p:nvPr/>
          </p:nvSpPr>
          <p:spPr>
            <a:xfrm>
              <a:off x="1072800" y="529560"/>
              <a:ext cx="77364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t">
              <a:spAutoFit/>
            </a:bodyPr>
            <a:p>
              <a:pPr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zh-CN" sz="38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分析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266760" y="328680"/>
              <a:ext cx="877320" cy="96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>
            <a:off x="1943280" y="1886040"/>
            <a:ext cx="266400" cy="952560"/>
          </a:xfrm>
          <a:prstGeom prst="downArrow">
            <a:avLst>
              <a:gd name="adj1" fmla="val 50000"/>
              <a:gd name="adj2" fmla="val 89392"/>
            </a:avLst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86440" y="1886040"/>
            <a:ext cx="266760" cy="952560"/>
          </a:xfrm>
          <a:prstGeom prst="downArrow">
            <a:avLst>
              <a:gd name="adj1" fmla="val 50000"/>
              <a:gd name="adj2" fmla="val 89271"/>
            </a:avLst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58280" y="1866960"/>
            <a:ext cx="266400" cy="952560"/>
          </a:xfrm>
          <a:prstGeom prst="downArrow">
            <a:avLst>
              <a:gd name="adj1" fmla="val 50000"/>
              <a:gd name="adj2" fmla="val 89392"/>
            </a:avLst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19760" y="284796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0-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67880" y="2847960"/>
            <a:ext cx="16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0+2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71440" y="284796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24760" y="28386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41000" y="289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90520" y="40449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在解方程后，要注意检验方程的根的合理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488880" y="366840"/>
            <a:ext cx="3076560" cy="820440"/>
            <a:chOff x="488880" y="366840"/>
            <a:chExt cx="3076560" cy="82044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488880" y="438120"/>
              <a:ext cx="863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476360" y="366840"/>
              <a:ext cx="2089080" cy="68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1584000" y="474480"/>
              <a:ext cx="18734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练　习</a:t>
              </a:r>
              <a:endPara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84080" y="1681200"/>
            <a:ext cx="751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经销商以每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的价格从厂家购进一批运动鞋，如果每双鞋售价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，那么可以卖出这种运动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50-10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物价局限定每双鞋的售价不得超过进价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2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果商店要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，每双鞋的售价应定为多少元？需要卖出多少双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14:35:26Z</dcterms:created>
  <dc:creator/>
  <dc:description> </dc:description>
  <cp:keywords/>
  <dc:language>en-US</dc:language>
  <cp:lastModifiedBy>微软用户</cp:lastModifiedBy>
  <dcterms:modified xsi:type="dcterms:W3CDTF">2012-07-06T02:37:58Z</dcterms:modified>
  <cp:revision>1</cp:revision>
  <dc:subject> </dc:subject>
  <dc:title> </dc:title>
</cp:coreProperties>
</file>